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5134C-3CAD-47B8-9031-45E170756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68499-13B1-4FC1-B666-8CD4BE6AC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DD4E5-7EA4-46BE-AA39-6A8026E31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B0FFB-8788-45E8-B63E-2BA6AA7B4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C7FD6-2C0D-4181-BCE5-1F7C22FE9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AA50A-592A-4453-97CC-CB7569D4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2761B-1B04-4EA6-9896-6AA80DF95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AB3E7-CC21-4303-9D26-580A0A8F9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FF75-06FC-43D1-9E2E-537E31CBE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C446F-20E3-441C-ABA3-1F6A25676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0834E-EB48-4F02-A319-59DAA1543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D678-2B62-43FB-ABDF-1BB40053C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C6E7-2825-4E63-B4F4-2FAF5940D3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5.xml"/><Relationship Id="rId10" Type="http://schemas.openxmlformats.org/officeDocument/2006/relationships/slide" Target="slide14.xml"/><Relationship Id="rId11" Type="http://schemas.openxmlformats.org/officeDocument/2006/relationships/slide" Target="slide13.xml"/><Relationship Id="rId12" Type="http://schemas.openxmlformats.org/officeDocument/2006/relationships/slide" Target="slide12.xml"/><Relationship Id="rId13" Type="http://schemas.openxmlformats.org/officeDocument/2006/relationships/slide" Target="slide12.xml"/><Relationship Id="rId14" Type="http://schemas.openxmlformats.org/officeDocument/2006/relationships/slide" Target="slide11.xml"/><Relationship Id="rId15" Type="http://schemas.openxmlformats.org/officeDocument/2006/relationships/slide" Target="slide8.xml"/><Relationship Id="rId16" Type="http://schemas.openxmlformats.org/officeDocument/2006/relationships/slide" Target=""/><Relationship Id="rId17" Type="http://schemas.openxmlformats.org/officeDocument/2006/relationships/slide" Target="slide17.xml"/><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slide17.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fda.gov/MedWatch/report.htm" TargetMode="External"/><Relationship Id="rId2" Type="http://schemas.openxmlformats.org/officeDocument/2006/relationships/hyperlink" Target="http://www.fda.gov/MedWatch/report.htm" TargetMode="Externa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xml"/><Relationship Id="rId6" Type="http://schemas.openxmlformats.org/officeDocument/2006/relationships/slide" Target=""/><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Relationship Id="rId3" Type="http://schemas.openxmlformats.org/officeDocument/2006/relationships/slide" Target="slide17.xml"/><Relationship Id="rId4" Type="http://schemas.openxmlformats.org/officeDocument/2006/relationships/slide" Target=""/><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Relationship Id="rId3" Type="http://schemas.openxmlformats.org/officeDocument/2006/relationships/slide" Target="slide17.xml"/><Relationship Id="rId4" Type="http://schemas.openxmlformats.org/officeDocument/2006/relationships/slide" Target=""/><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Text Box 6"/>
          <p:cNvSpPr/>
          <p:nvPr/>
        </p:nvSpPr>
        <p:spPr>
          <a:xfrm>
            <a:off x="380880" y="1066680"/>
            <a:ext cx="82296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7"/>
          <p:cNvSpPr/>
          <p:nvPr/>
        </p:nvSpPr>
        <p:spPr>
          <a:xfrm>
            <a:off x="457200" y="380880"/>
            <a:ext cx="8153280" cy="398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lbuterol (Aerosol Inhaler) Caregiver Instructions</a:t>
            </a:r>
            <a:endParaRPr b="0" lang="en-US" sz="2000" spc="-1" strike="noStrike">
              <a:solidFill>
                <a:srgbClr val="000000"/>
              </a:solidFill>
              <a:latin typeface="Arial"/>
            </a:endParaRPr>
          </a:p>
        </p:txBody>
      </p:sp>
      <p:sp>
        <p:nvSpPr>
          <p:cNvPr id="43" name="Text Box 9"/>
          <p:cNvSpPr/>
          <p:nvPr/>
        </p:nvSpPr>
        <p:spPr>
          <a:xfrm>
            <a:off x="2286000" y="1143000"/>
            <a:ext cx="457200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information by touching topics</a:t>
            </a:r>
            <a:endParaRPr b="0" lang="en-US" sz="1800" spc="-1" strike="noStrike">
              <a:solidFill>
                <a:srgbClr val="000000"/>
              </a:solidFill>
              <a:latin typeface="Arial"/>
            </a:endParaRPr>
          </a:p>
        </p:txBody>
      </p:sp>
      <p:sp>
        <p:nvSpPr>
          <p:cNvPr id="44" name="Text Box 20"/>
          <p:cNvSpPr/>
          <p:nvPr/>
        </p:nvSpPr>
        <p:spPr>
          <a:xfrm>
            <a:off x="640080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ALL PAGES</a:t>
            </a:r>
            <a:endParaRPr b="0" lang="en-US" sz="1800" spc="-1" strike="noStrike">
              <a:solidFill>
                <a:srgbClr val="000000"/>
              </a:solidFill>
              <a:latin typeface="Arial"/>
            </a:endParaRPr>
          </a:p>
        </p:txBody>
      </p:sp>
      <p:grpSp>
        <p:nvGrpSpPr>
          <p:cNvPr id="45" name="Group 23"/>
          <p:cNvGrpSpPr/>
          <p:nvPr/>
        </p:nvGrpSpPr>
        <p:grpSpPr>
          <a:xfrm>
            <a:off x="228600" y="1752480"/>
            <a:ext cx="8718120" cy="3871800"/>
            <a:chOff x="228600" y="1752480"/>
            <a:chExt cx="8718120" cy="3871800"/>
          </a:xfrm>
        </p:grpSpPr>
        <p:pic>
          <p:nvPicPr>
            <p:cNvPr id="46" name="Text Box 8" descr=""/>
            <p:cNvPicPr/>
            <p:nvPr/>
          </p:nvPicPr>
          <p:blipFill>
            <a:blip r:embed="rId2"/>
            <a:stretch/>
          </p:blipFill>
          <p:spPr>
            <a:xfrm>
              <a:off x="228600" y="1752480"/>
              <a:ext cx="4511160" cy="470160"/>
            </a:xfrm>
            <a:prstGeom prst="rect">
              <a:avLst/>
            </a:prstGeom>
            <a:ln w="0">
              <a:noFill/>
            </a:ln>
          </p:spPr>
        </p:pic>
        <p:sp>
          <p:nvSpPr>
            <p:cNvPr id="47" name="Text Box 10"/>
            <p:cNvSpPr/>
            <p:nvPr/>
          </p:nvSpPr>
          <p:spPr>
            <a:xfrm>
              <a:off x="237600" y="2435400"/>
              <a:ext cx="4490640" cy="3722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How should this medicine be used?</a:t>
              </a:r>
              <a:r>
                <a:rPr b="0" lang="en-US" sz="1800" spc="-1" strike="noStrike" u="sng">
                  <a:solidFill>
                    <a:srgbClr val="009999"/>
                  </a:solidFill>
                  <a:uFillTx/>
                  <a:latin typeface="Arial"/>
                  <a:hlinkClick r:id="rId4" action="ppaction://hlinksldjump"/>
                </a:rPr>
                <a:t> </a:t>
              </a:r>
              <a:r>
                <a:rPr b="0" lang="en-US" sz="1800" spc="-1" strike="noStrike" u="sng">
                  <a:solidFill>
                    <a:srgbClr val="333399"/>
                  </a:solidFill>
                  <a:uFillTx/>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11"/>
            <p:cNvSpPr/>
            <p:nvPr/>
          </p:nvSpPr>
          <p:spPr>
            <a:xfrm>
              <a:off x="237600" y="3031200"/>
              <a:ext cx="4490640" cy="625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To use the aerosol inhaler, follow these steps:</a:t>
              </a:r>
              <a:endParaRPr b="0" lang="en-US" sz="1800" spc="-1" strike="noStrike">
                <a:solidFill>
                  <a:srgbClr val="000000"/>
                </a:solidFill>
                <a:latin typeface="Arial"/>
              </a:endParaRPr>
            </a:p>
          </p:txBody>
        </p:sp>
        <p:sp>
          <p:nvSpPr>
            <p:cNvPr id="49" name="Text Box 12"/>
            <p:cNvSpPr/>
            <p:nvPr/>
          </p:nvSpPr>
          <p:spPr>
            <a:xfrm>
              <a:off x="237600" y="3850560"/>
              <a:ext cx="4490640" cy="357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Other uses for this medicine:</a:t>
              </a:r>
              <a:r>
                <a:rPr b="0" lang="en-US" sz="1800" spc="-1" strike="noStrike" u="sng">
                  <a:solidFill>
                    <a:srgbClr val="009999"/>
                  </a:solidFill>
                  <a:uFillTx/>
                  <a:latin typeface="Arial"/>
                  <a:hlinkClick r:id="rId7" action="ppaction://hlinksldjump"/>
                </a:rPr>
                <a:t> </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0" name="Text Box 13"/>
            <p:cNvSpPr/>
            <p:nvPr/>
          </p:nvSpPr>
          <p:spPr>
            <a:xfrm>
              <a:off x="237600" y="4371840"/>
              <a:ext cx="4490640" cy="521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ction="ppaction://hlinksldjump"/>
                </a:rPr>
                <a:t>What special precautions should I fol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4"/>
            <p:cNvSpPr/>
            <p:nvPr/>
          </p:nvSpPr>
          <p:spPr>
            <a:xfrm>
              <a:off x="4881240" y="3701520"/>
              <a:ext cx="4062240" cy="5954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9" action="ppaction://hlinksldjump"/>
                </a:rPr>
                <a:t>What other information should I kn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5"/>
            <p:cNvSpPr/>
            <p:nvPr/>
          </p:nvSpPr>
          <p:spPr>
            <a:xfrm>
              <a:off x="4881240" y="2286000"/>
              <a:ext cx="4062240" cy="446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0" action="ppaction://hlinksldjump"/>
                </a:rPr>
                <a:t>In case of emergency/overdo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6"/>
            <p:cNvSpPr/>
            <p:nvPr/>
          </p:nvSpPr>
          <p:spPr>
            <a:xfrm>
              <a:off x="4881240" y="4446720"/>
              <a:ext cx="4062240" cy="5954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1" action="ppaction://hlinksldjump"/>
                </a:rPr>
                <a:t>What storage conditions are needed for this medicine?</a:t>
              </a:r>
              <a:endParaRPr b="0" lang="en-US" sz="1800" spc="-1" strike="noStrike">
                <a:solidFill>
                  <a:srgbClr val="000000"/>
                </a:solidFill>
                <a:latin typeface="Arial"/>
              </a:endParaRPr>
            </a:p>
          </p:txBody>
        </p:sp>
        <p:sp>
          <p:nvSpPr>
            <p:cNvPr id="54" name="Text Box 17"/>
            <p:cNvSpPr/>
            <p:nvPr/>
          </p:nvSpPr>
          <p:spPr>
            <a:xfrm>
              <a:off x="4881240" y="2882160"/>
              <a:ext cx="4062240" cy="625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2" action="ppaction://hlinksldjump"/>
                </a:rPr>
                <a:t>What side effects can this medication cause?</a:t>
              </a:r>
              <a:r>
                <a:rPr b="0" lang="en-US" sz="1800" spc="-1" strike="noStrike" u="sng">
                  <a:solidFill>
                    <a:srgbClr val="009999"/>
                  </a:solidFill>
                  <a:uFillTx/>
                  <a:latin typeface="Arial"/>
                  <a:hlinkClick r:id="rId13" action="ppaction://hlinksldjump"/>
                </a:rPr>
                <a:t> </a:t>
              </a:r>
              <a:r>
                <a:rPr b="0" lang="en-US" sz="1800" spc="-1" strike="noStrike" u="sng">
                  <a:solidFill>
                    <a:srgbClr val="333399"/>
                  </a:solidFill>
                  <a:uFillTx/>
                  <a:latin typeface="Arial"/>
                </a:rPr>
                <a:t> </a:t>
              </a:r>
              <a:endParaRPr b="0" lang="en-US" sz="1800" spc="-1" strike="noStrike">
                <a:solidFill>
                  <a:srgbClr val="000000"/>
                </a:solidFill>
                <a:latin typeface="Arial"/>
              </a:endParaRPr>
            </a:p>
          </p:txBody>
        </p:sp>
        <p:sp>
          <p:nvSpPr>
            <p:cNvPr id="55" name="Text Box 18"/>
            <p:cNvSpPr/>
            <p:nvPr/>
          </p:nvSpPr>
          <p:spPr>
            <a:xfrm>
              <a:off x="4881240" y="1839240"/>
              <a:ext cx="4065480" cy="357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4" action="ppaction://hlinksldjump"/>
                </a:rPr>
                <a:t>What should I do if I forget a dose?</a:t>
              </a:r>
              <a:endParaRPr b="0" lang="en-US" sz="1800" spc="-1" strike="noStrike">
                <a:solidFill>
                  <a:srgbClr val="000000"/>
                </a:solidFill>
                <a:latin typeface="Arial"/>
              </a:endParaRPr>
            </a:p>
          </p:txBody>
        </p:sp>
        <p:sp>
          <p:nvSpPr>
            <p:cNvPr id="56" name="Text Box 21"/>
            <p:cNvSpPr/>
            <p:nvPr/>
          </p:nvSpPr>
          <p:spPr>
            <a:xfrm>
              <a:off x="237600" y="5042520"/>
              <a:ext cx="4492440" cy="58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5" action="ppaction://hlinksldjump"/>
                </a:rPr>
                <a:t>Inhaler Specific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 Box 22">
            <a:hlinkClick r:id="rId16" action="ppaction://hlinksldjump"/>
          </p:cNvPr>
          <p:cNvSpPr/>
          <p:nvPr/>
        </p:nvSpPr>
        <p:spPr>
          <a:xfrm>
            <a:off x="640080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7"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What special precautions should I follow?</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using albuterol inhal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l your doctor and pharmacist if you are allergic to albuterol (Vospire ER, in Combivent, in Duoneb), levalbuterol (Xoponex), or any other medicatio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l your doctor and pharmacist what prescription medications, vitamins, nutritional supplements, and herbal products you are taking or plan to take. Be sure to mention any of the following: beta blockers such as atenolol (Tenormin), labetalol (Normodyne), metoprolol (Lopressor, Toprol XL), nadolol (Corgard), and propranolol (Inderal); digoxin (Lanoxin); diuretics ('water pills'); epinephrine (Epipen, Primatene Mist); other inhaled medications used to relax the air passages such as metaproterenol (Alupent) and levalbuterol (Xoponex); and medications for colds. Also tell your doctor or pharmacist if you are taking the following medications or have stopped taking them within the past 2 weeks: antidepressants such as amitriptyline (Elavil), amoxapine (Asendin), clomipramine (Anafranil), desipramine (Norpramin), doxepin (Adapin, Sinequan), imipramine (Tofranil), nortriptyline (Aventyl, Pamelor), protriptyline (Vivactil), and trimipramine (Surmontil); and monoamine oxidase (MAO) inhibitors, including isocarboxazid (Marplan), phenelzine (Nardil), selegiline (Eldepryl, Emsam), and tranylcypromine (Parnate). Your doctor may need to change the doses of your medications or monitor you carefully for side effec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l your doctor if you have or have ever had an irregular heartbeat, heart disease, high blood pressure, hyperthyroidism (condition in which there is too much thyroid hormone in the body), diabetes, or seizur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l your doctor if you are pregnant, plan to become pregnant, or are breast-feeding. If you become pregnant while using albuterol, call your docto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should know that albuterol inhalation sometimes causes wheezing and difficulty breathing immediately after it is inhaled. If this happens, call your doctor right away. Do not use albuterol inhalation again unless your doctor tells you that you should.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Text Box 6"/>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102" name="Text Box 7"/>
          <p:cNvSpPr/>
          <p:nvPr/>
        </p:nvSpPr>
        <p:spPr>
          <a:xfrm>
            <a:off x="4038480" y="60199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103" name="Text Box 4">
            <a:hlinkClick r:id="rId3" action="ppaction://hlinksldjump"/>
          </p:cNvPr>
          <p:cNvSpPr/>
          <p:nvPr/>
        </p:nvSpPr>
        <p:spPr>
          <a:xfrm>
            <a:off x="152280" y="606600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104" name="Text Box 22">
            <a:hlinkClick r:id="rId5" action="ppaction://hlinksldjump"/>
          </p:cNvPr>
          <p:cNvSpPr/>
          <p:nvPr/>
        </p:nvSpPr>
        <p:spPr>
          <a:xfrm>
            <a:off x="4038480" y="60199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76520"/>
            <a:ext cx="8229600" cy="3657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What should I do if I forget a dose?</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been told to use albuterol inhalation on a regular schedule, use the missed dose as soon as you remember it. However, if it is almost time for the next dose, skip the missed dose and continue your regular dosing schedule. Do not use a double dose to make up for a missed o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107"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108"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109" name="Text Box 22"/>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457200"/>
            <a:ext cx="8229600" cy="5897520"/>
          </a:xfrm>
          <a:prstGeom prst="rect">
            <a:avLst/>
          </a:prstGeom>
          <a:noFill/>
          <a:ln w="0">
            <a:noFill/>
          </a:ln>
        </p:spPr>
        <p:txBody>
          <a:bodyPr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Arial"/>
              </a:rPr>
              <a:t>What side effects can this medication cause?</a:t>
            </a:r>
            <a:r>
              <a:rPr b="1" lang="en-US" sz="1400" spc="-1" strike="noStrike">
                <a:solidFill>
                  <a:srgbClr val="3333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controllable shaking of a part of the bod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rvousnes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ach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use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mit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gh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at irrit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cle, bone, or back pai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ide effects can be serious. If you experience any of the following symptoms, call your doctor immediatel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 pounding, or irregular heartbe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st pai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sh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v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ch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elling of the face, throat, tongue, lips, eyes, hands, feet, ankles, or lower leg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ifficulty breath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y swallow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arsenes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buterol may cause other side effects. Call your doctor if you have any unusual problems while using this medic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experience a serious side effect, you or your doctor may send a report to the Food and Drug Administration's (FDA) MedWatch Adverse Event Reporting program online [at </a:t>
            </a: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fda.gov/MedWatch/report.htm</a:t>
            </a:r>
            <a:r>
              <a:rPr b="0" lang="en-US" sz="1400" spc="-1" strike="noStrike">
                <a:solidFill>
                  <a:srgbClr val="000000"/>
                </a:solidFill>
                <a:latin typeface="Arial"/>
              </a:rPr>
              <a:t>] or by phone [1-800-332-1088].</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PRINT PAGE</a:t>
            </a:r>
            <a:endParaRPr b="0" lang="en-US" sz="1800" spc="-1" strike="noStrike">
              <a:solidFill>
                <a:srgbClr val="000000"/>
              </a:solidFill>
              <a:latin typeface="Arial"/>
            </a:endParaRPr>
          </a:p>
        </p:txBody>
      </p:sp>
      <p:sp>
        <p:nvSpPr>
          <p:cNvPr id="112" name="Text Box 5"/>
          <p:cNvSpPr/>
          <p:nvPr/>
        </p:nvSpPr>
        <p:spPr>
          <a:xfrm>
            <a:off x="4114800" y="59436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TRANSFER PAGE TO PDA</a:t>
            </a:r>
            <a:endParaRPr b="0" lang="en-US" sz="1800" spc="-1" strike="noStrike">
              <a:solidFill>
                <a:srgbClr val="000000"/>
              </a:solidFill>
              <a:latin typeface="Arial"/>
            </a:endParaRPr>
          </a:p>
        </p:txBody>
      </p:sp>
      <p:sp>
        <p:nvSpPr>
          <p:cNvPr id="113" name="Text Box 4"/>
          <p:cNvSpPr/>
          <p:nvPr/>
        </p:nvSpPr>
        <p:spPr>
          <a:xfrm>
            <a:off x="152280" y="6172200"/>
            <a:ext cx="289584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
        <p:nvSpPr>
          <p:cNvPr id="114" name="Text Box 4">
            <a:hlinkClick r:id="rId6"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ction="ppaction://hlinksldjump"/>
              </a:rPr>
              <a:t>BACK TO MAIN PAGE</a:t>
            </a:r>
            <a:endParaRPr b="0" lang="en-US" sz="1800" spc="-1" strike="noStrike">
              <a:solidFill>
                <a:srgbClr val="000000"/>
              </a:solidFill>
              <a:latin typeface="Arial"/>
            </a:endParaRPr>
          </a:p>
        </p:txBody>
      </p:sp>
      <p:sp>
        <p:nvSpPr>
          <p:cNvPr id="115" name="Text Box 22"/>
          <p:cNvSpPr/>
          <p:nvPr/>
        </p:nvSpPr>
        <p:spPr>
          <a:xfrm>
            <a:off x="4114800" y="5978520"/>
            <a:ext cx="23623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523880"/>
            <a:ext cx="8229600" cy="46022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What storage conditions are needed for this medicin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this medication in the container it came in, tightly closed, and out of reach of children. Keep unused vials of nebulizer solution in the foil pouch until you are ready to use them.Store the medication at room temperature and away from excess heat and moisture (not in the bathroom). Throw away any medication that is outdated or no longer needed. If you are using the nebulizer solution, throw away vials one week after you remove them from the foil pouch. If you are using the inhaler with an attached counter, throw away the inhaler 2 months after you remove it from the foil pouch. Talk to your pharmacist about the proper disposal of your medication. Do not puncture the aerosol canister, and do not discard it in an incinerator or fi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118"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119" name="Text Box 4"/>
          <p:cNvSpPr/>
          <p:nvPr/>
        </p:nvSpPr>
        <p:spPr>
          <a:xfrm>
            <a:off x="152280" y="6172200"/>
            <a:ext cx="289584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BACK TO MAIN PAGE</a:t>
            </a:r>
            <a:endParaRPr b="0" lang="en-US" sz="1800" spc="-1" strike="noStrike">
              <a:solidFill>
                <a:srgbClr val="000000"/>
              </a:solidFill>
              <a:latin typeface="Arial"/>
            </a:endParaRPr>
          </a:p>
        </p:txBody>
      </p:sp>
      <p:sp>
        <p:nvSpPr>
          <p:cNvPr id="120" name="Text Box 4">
            <a:hlinkClick r:id="rId4"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
        <p:nvSpPr>
          <p:cNvPr id="121" name="Text Box 22"/>
          <p:cNvSpPr/>
          <p:nvPr/>
        </p:nvSpPr>
        <p:spPr>
          <a:xfrm>
            <a:off x="6553080" y="5334120"/>
            <a:ext cx="23623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In case of emergency/overdos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 of overdose, call your local poison control center at 1-800-222-1222. If the victim has collapsed or is not breathing, call local emergency services at 91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of overdose may includ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izu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st pa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irregular or pounding heartbe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ousn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ach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ontrollable shaking of a part of the bod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y mou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use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zzin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ive tiredn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energ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falling asleep or staying asleep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Text Box 5"/>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124" name="Text Box 6"/>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125" name="Text Box 4"/>
          <p:cNvSpPr/>
          <p:nvPr/>
        </p:nvSpPr>
        <p:spPr>
          <a:xfrm>
            <a:off x="152280" y="6172200"/>
            <a:ext cx="289584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BACK TO MAIN PAGE</a:t>
            </a:r>
            <a:endParaRPr b="0" lang="en-US" sz="1800" spc="-1" strike="noStrike">
              <a:solidFill>
                <a:srgbClr val="000000"/>
              </a:solidFill>
              <a:latin typeface="Arial"/>
            </a:endParaRPr>
          </a:p>
        </p:txBody>
      </p:sp>
      <p:sp>
        <p:nvSpPr>
          <p:cNvPr id="126" name="Text Box 4">
            <a:hlinkClick r:id="rId4"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
        <p:nvSpPr>
          <p:cNvPr id="127" name="Text Box 22"/>
          <p:cNvSpPr/>
          <p:nvPr/>
        </p:nvSpPr>
        <p:spPr>
          <a:xfrm>
            <a:off x="6553080" y="5334120"/>
            <a:ext cx="23623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5720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What other information should I know?</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ll appointments with your doc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et anyone else use your medication. Ask your pharmacist any questions you have about refilling your prescrip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neb®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ir HF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til® HF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tolin HFA®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am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butamo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130"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131" name="Text Box 4"/>
          <p:cNvSpPr/>
          <p:nvPr/>
        </p:nvSpPr>
        <p:spPr>
          <a:xfrm>
            <a:off x="152280" y="6172200"/>
            <a:ext cx="289584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BACK TO MAIN PAGE</a:t>
            </a:r>
            <a:endParaRPr b="0" lang="en-US" sz="1800" spc="-1" strike="noStrike">
              <a:solidFill>
                <a:srgbClr val="000000"/>
              </a:solidFill>
              <a:latin typeface="Arial"/>
            </a:endParaRPr>
          </a:p>
        </p:txBody>
      </p:sp>
      <p:sp>
        <p:nvSpPr>
          <p:cNvPr id="132" name="Text Box 4">
            <a:hlinkClick r:id="rId4" action="ppaction://hlinksldjump"/>
          </p:cNvPr>
          <p:cNvSpPr/>
          <p:nvPr/>
        </p:nvSpPr>
        <p:spPr>
          <a:xfrm>
            <a:off x="152280" y="606600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
        <p:nvSpPr>
          <p:cNvPr id="133" name="Text Box 22"/>
          <p:cNvSpPr/>
          <p:nvPr/>
        </p:nvSpPr>
        <p:spPr>
          <a:xfrm>
            <a:off x="6553080" y="5334120"/>
            <a:ext cx="23623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1295280"/>
          </a:xfrm>
          <a:prstGeom prst="rect">
            <a:avLst/>
          </a:prstGeom>
          <a:no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elected pages are pri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contact your nurse to retrieve pa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Text Box 4"/>
          <p:cNvSpPr/>
          <p:nvPr/>
        </p:nvSpPr>
        <p:spPr>
          <a:xfrm>
            <a:off x="380880" y="6172200"/>
            <a:ext cx="289584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ACK TO MAIN PAGE</a:t>
            </a:r>
            <a:endParaRPr b="0" lang="en-US" sz="1800" spc="-1" strike="noStrike">
              <a:solidFill>
                <a:srgbClr val="000000"/>
              </a:solidFill>
              <a:latin typeface="Arial"/>
            </a:endParaRPr>
          </a:p>
        </p:txBody>
      </p:sp>
      <p:sp>
        <p:nvSpPr>
          <p:cNvPr id="136" name="Text Box 4">
            <a:hlinkClick r:id="rId2"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BACK TO MAIN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599840"/>
            <a:ext cx="8229600" cy="1143000"/>
          </a:xfrm>
          <a:prstGeom prst="rect">
            <a:avLst/>
          </a:prstGeom>
          <a:no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elected information has been transferred to your selected PDA…</a:t>
            </a:r>
            <a:endParaRPr b="0" lang="en-US" sz="3200" spc="-1" strike="noStrike">
              <a:solidFill>
                <a:srgbClr val="000000"/>
              </a:solidFill>
              <a:latin typeface="Arial"/>
            </a:endParaRPr>
          </a:p>
        </p:txBody>
      </p:sp>
      <p:sp>
        <p:nvSpPr>
          <p:cNvPr id="138" name="Text Box 4"/>
          <p:cNvSpPr/>
          <p:nvPr/>
        </p:nvSpPr>
        <p:spPr>
          <a:xfrm>
            <a:off x="304920" y="6172200"/>
            <a:ext cx="289548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ACK TO MAIN PAGE</a:t>
            </a:r>
            <a:endParaRPr b="0" lang="en-US" sz="1800" spc="-1" strike="noStrike">
              <a:solidFill>
                <a:srgbClr val="000000"/>
              </a:solidFill>
              <a:latin typeface="Arial"/>
            </a:endParaRPr>
          </a:p>
        </p:txBody>
      </p:sp>
      <p:sp>
        <p:nvSpPr>
          <p:cNvPr id="139" name="Text Box 4">
            <a:hlinkClick r:id="rId2"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BACK TO MAIN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85440"/>
            <a:ext cx="8229600" cy="47242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Why is this medication prescribe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uterol is used to prevent and treat wheezing, difficulty breathing and chest tightness caused by lung diseases such as asthma and chronic obstructive pulmonary disease (COPD; a group of diseases that affect the lungs and airways). Albuterol inhalation aerosol is also used to prevent breathing difficulties during exercise. Albuterol is in a class of medications called bronchodilators. It works by relaxing and opening air passages to the lungs to make breathing easi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your inhaler or nebulizer regularly. Follow the manufacturer's directions carefully and ask your doctor or pharmacist if you have any questions about cleaning your inhaler or nebulizer.If you do not clean your inhaler properly, the inhaler may become blocked and may not spray medication. If this happens, follow the manufacturer's directions for cleaning the inhaler and removing the blockag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60"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61"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62"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Text Box 4"/>
          <p:cNvSpPr/>
          <p:nvPr/>
        </p:nvSpPr>
        <p:spPr>
          <a:xfrm>
            <a:off x="1127160" y="2627280"/>
            <a:ext cx="5807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5"/>
          <p:cNvSpPr/>
          <p:nvPr/>
        </p:nvSpPr>
        <p:spPr>
          <a:xfrm>
            <a:off x="228600" y="1371600"/>
            <a:ext cx="8534520" cy="352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How should this medicine be used?</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uterol comes as a solution (liquid) to inhale by mouth using a nebulizer (machine that turns medication into a mist that can be inhaled) and as an aerosol to inhale by mouth using an inhaler. When the inhalation aerosol is used to treat or prevent symptoms of lung disease, it is usually used every 4 to 6 hours as nee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nhalation aerosol is used to prevent breathing difficulty during exercise, it is usually used 15 to 30 minutes before exercise. Use albuterol exactly as directed. Do not use more or less of it or use it more often than prescribed by your doc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7"/>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66" name="Text Box 8"/>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67"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68"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Text Box 2"/>
          <p:cNvSpPr/>
          <p:nvPr/>
        </p:nvSpPr>
        <p:spPr>
          <a:xfrm>
            <a:off x="1127160" y="2627280"/>
            <a:ext cx="5807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
          <p:cNvSpPr/>
          <p:nvPr/>
        </p:nvSpPr>
        <p:spPr>
          <a:xfrm>
            <a:off x="228600" y="1371600"/>
            <a:ext cx="8534520" cy="352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How should this medicine be used?</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uterol comes as a solution (liquid) to inhale by mouth using a nebulizer (machine that turns medication into a mist that can be inhaled) and as an aerosol to inhale by mouth using an inhaler. When the inhalation aerosol is used to treat or prevent symptoms of lung disease, it is usually used every 4 to 6 hours as nee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nhalation aerosol is used to prevent breathing difficulty during exercise, it is usually used 15 to 30 minutes before exercise. Use albuterol exactly as directed. Do not use more or less of it or use it more often than prescribed by your doc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72"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73"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74"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Text Box 2"/>
          <p:cNvSpPr/>
          <p:nvPr/>
        </p:nvSpPr>
        <p:spPr>
          <a:xfrm>
            <a:off x="1127160" y="2627280"/>
            <a:ext cx="5807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3"/>
          <p:cNvSpPr/>
          <p:nvPr/>
        </p:nvSpPr>
        <p:spPr>
          <a:xfrm>
            <a:off x="228600" y="1371600"/>
            <a:ext cx="8534520" cy="352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How should this medicine be used?</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uterol comes as a solution (liquid) to inhale by mouth using a nebulizer (machine that turns medication into a mist that can be inhaled) and as an aerosol to inhale by mouth using an inhaler. When the inhalation aerosol is used to treat or prevent symptoms of lung disease, it is usually used every 4 to 6 hours as nee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nhalation aerosol is used to prevent breathing difficulty during exercise, it is usually used 15 to 30 minutes before exercise. Use albuterol exactly as directed. Do not use more or less of it or use it more often than prescribed by your doc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78"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79"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80"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Text Box 2"/>
          <p:cNvSpPr/>
          <p:nvPr/>
        </p:nvSpPr>
        <p:spPr>
          <a:xfrm>
            <a:off x="1127160" y="2627280"/>
            <a:ext cx="5807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3"/>
          <p:cNvSpPr/>
          <p:nvPr/>
        </p:nvSpPr>
        <p:spPr>
          <a:xfrm>
            <a:off x="228600" y="1371600"/>
            <a:ext cx="8534520" cy="352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How should this medicine be used?</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uterol comes as a solution (liquid) to inhale by mouth using a nebulizer (machine that turns medication into a mist that can be inhaled) and as an aerosol to inhale by mouth using an inhaler. When the inhalation aerosol is used to treat or prevent symptoms of lung disease, it is usually used every 4 to 6 hours as nee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nhalation aerosol is used to prevent breathing difficulty during exercise, it is usually used 15 to 30 minutes before exercise. Use albuterol exactly as directed. Do not use more or less of it or use it more often than prescribed by your doc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84"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85"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86"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04560"/>
            <a:ext cx="8305920" cy="61722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To use the aerosol inhaler, follow these step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protective dust cap from the end of the mouthpiece. If the dust cap was not placed on the mouthpiece, check the mouthpiece for dirt or other objects. Be sure that the canister is fully and firmly inserted in the mouthpiec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using the inhaler for the first time or if you have not used the inhaler in more than 14 days, you will need to prime it. You may also need to prime the inhaler if it has been dropped. Ask your pharmacist or check the manufacturer's information if this happens. To prime the inhaler, shake it well and then press down on the canister 4 times to release 4 sprays into the air, away from your face. Be careful not to get albuterol in your ey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ke the inhaler wel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the out as completely as possible through your mouth.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 the canister with the mouthpiece on the bottom, facing you and the canister pointing upward. Place the open end of the mouthpiece into your mouth. Close your lips tightly around the mouthpiec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the in slowly and deeply through the mouthpiece. At the same time, press down once on the container to spray the medication into your mouth.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hold your breath for 10 seconds. remove the inhaler, and breathe out slowly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ere told to use 2 puffs, wait 1 minute and then repeat steps 3-7.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protective cap on the inhale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4"/>
          <p:cNvSpPr/>
          <p:nvPr/>
        </p:nvSpPr>
        <p:spPr>
          <a:xfrm>
            <a:off x="6705720" y="6172200"/>
            <a:ext cx="23619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89" name="Text Box 5">
            <a:hlinkClick r:id="rId2" action="ppaction://hlinksldjump"/>
          </p:cNvPr>
          <p:cNvSpPr/>
          <p:nvPr/>
        </p:nvSpPr>
        <p:spPr>
          <a:xfrm>
            <a:off x="3048120" y="6172200"/>
            <a:ext cx="35049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TRANSFER PAGE TO PDA</a:t>
            </a:r>
            <a:endParaRPr b="0" lang="en-US" sz="1800" spc="-1" strike="noStrike">
              <a:solidFill>
                <a:srgbClr val="000000"/>
              </a:solidFill>
              <a:latin typeface="Arial"/>
            </a:endParaRPr>
          </a:p>
        </p:txBody>
      </p:sp>
      <p:sp>
        <p:nvSpPr>
          <p:cNvPr id="90" name="Text Box 4">
            <a:hlinkClick r:id="rId4" action="ppaction://hlinksldjump"/>
          </p:cNvPr>
          <p:cNvSpPr/>
          <p:nvPr/>
        </p:nvSpPr>
        <p:spPr>
          <a:xfrm>
            <a:off x="0" y="6172200"/>
            <a:ext cx="289548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304920"/>
            <a:ext cx="8229600" cy="5821200"/>
          </a:xfrm>
          <a:prstGeom prst="rect">
            <a:avLst/>
          </a:prstGeom>
          <a:noFill/>
          <a:ln w="0">
            <a:noFill/>
          </a:ln>
        </p:spPr>
        <p:txBody>
          <a:bodyPr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Inhaler Specifications:</a:t>
            </a:r>
            <a:endParaRPr b="0" lang="en-US" sz="1600" spc="-1" strike="noStrike">
              <a:solidFill>
                <a:srgbClr val="000000"/>
              </a:solidFill>
              <a:latin typeface="Arial"/>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your doctor if your symptoms worsen or if you feel that albuterol inhalation no longer controls your symptoms. If you were told to use albuterol as needed to treat your symptoms and you find that you need to use the medication more often than usual, call your doctor.</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buterol controls symptoms of asthma and other lung diseases but does not cure them. Do not stop using albuterol without talking to your doctor.</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re using the inhaler, your medication will come in canisters. Each canister of albuterol aerosol is designed to provide 200 inhalations. After the labeled number of inhalations has been used, later inhalations may not contain the correct amount of medication. Throw away the canister after you have used the labeled number of inhalations even if it still contains some liquid and continues to release a spray when it is pressed.</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inhaler may come with an attached counter that keeps track of the number of sprays you have used. If you have this type of inhaler, you should not try to change the numbers or remove the counter from the canister. When the number that shows on the counter is 020, you should call your doctor or pharmacist to refill your prescription. When the number that shows on the counter is 000, you should not use that canister anymore. Throw away the empty canister.</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r inhaler does not come with an attached counter, you will need to keep track of the number of inhalations you have used. You can divide the number of inhalations in your inhaler by the number of inhalations you use each day to find out how many days your inhaler will last. Do not float the canister in water to see if it still contains medication.</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haler that comes with albuterol aerosol is designed for use only with a canister of albuterol. Never use it to inhale any other medication, and do not use any other inhaler to inhale albuterol.</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careful not to get albuterol inhalation into your eyes.</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use your albuterol inhaler when you are near a flame or source of heat. The inhaler may explode if it is exposed to very high temperatures.</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you use albuterol for the first time, read the written instructions that come with the inhaler or nebulizer. Ask your doctor, pharmacist, or respiratory therapist to show you how to use it. Practice using the inhaler or nebulizer while he or she watches.</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r child will be using the inhaler, be sure that he or she knows how to use it. Watch your child each time he or she uses the inhaler to be sure that he or she is using it correctly.</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Text Box 4"/>
          <p:cNvSpPr/>
          <p:nvPr/>
        </p:nvSpPr>
        <p:spPr>
          <a:xfrm>
            <a:off x="6705720" y="6248520"/>
            <a:ext cx="23619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93" name="Text Box 5">
            <a:hlinkClick r:id="rId2" action="ppaction://hlinksldjump"/>
          </p:cNvPr>
          <p:cNvSpPr/>
          <p:nvPr/>
        </p:nvSpPr>
        <p:spPr>
          <a:xfrm>
            <a:off x="3124080" y="6248520"/>
            <a:ext cx="3429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TRANSFER PAGE TO PDA</a:t>
            </a:r>
            <a:endParaRPr b="0" lang="en-US" sz="1800" spc="-1" strike="noStrike">
              <a:solidFill>
                <a:srgbClr val="000000"/>
              </a:solidFill>
              <a:latin typeface="Arial"/>
            </a:endParaRPr>
          </a:p>
        </p:txBody>
      </p:sp>
      <p:sp>
        <p:nvSpPr>
          <p:cNvPr id="94" name="Text Box 4">
            <a:hlinkClick r:id="rId4" action="ppaction://hlinksldjump"/>
          </p:cNvPr>
          <p:cNvSpPr/>
          <p:nvPr/>
        </p:nvSpPr>
        <p:spPr>
          <a:xfrm>
            <a:off x="76320" y="6253200"/>
            <a:ext cx="289548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09120" y="1066680"/>
            <a:ext cx="7620120" cy="46483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Other uses for this medicine:</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aled albuterol is also sometimes used to treat or improve muscle paralysis (inability to move parts of the body) in patients with a condition that causes attacks of paralysis. Talk to your doctor about the possible risks of using this medication for your cond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dication may be prescribed for other uses; ask your doctor or pharmacist for more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97"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98"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99"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5:02:21Z</dcterms:created>
  <dc:creator>davism</dc:creator>
  <dc:description/>
  <dc:language>en-US</dc:language>
  <cp:lastModifiedBy>Randeep Ramamurthy</cp:lastModifiedBy>
  <dcterms:modified xsi:type="dcterms:W3CDTF">2007-12-03T23:37:41Z</dcterms:modified>
  <cp:revision>37</cp:revision>
  <dc:subject/>
  <dc:title>Slide 1</dc:title>
</cp:coreProperties>
</file>